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F7EE5-BEAE-41CF-9B30-93772841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E9B65-EB01-4DD3-922B-38BFB935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39DB8-445F-4C56-9711-C1922551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78BDD-FD6F-4E01-9A7D-62862B65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3B29-4E6B-4B0B-B94F-815F0CDA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2524-33D5-4B7C-B0EB-F598F9EC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117A-48BF-48EA-BACD-5B7D4FEB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22A5-B212-4B8D-A883-0C156C4D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FAB5-892D-459B-A89C-9C3501C1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3402-B91C-4F79-A6D4-46073FAF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697D-B4BA-40E8-9561-4F268623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9F2C6-812E-41CF-BFD3-8E382FE2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EE10-BAA0-40C1-A5A9-63E3CFD3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8DB5-3C5A-47E9-84E2-0687506C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8102-DCF2-432C-83E8-2F12B008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4954-DF88-436E-80B3-5C25DB4D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7025-486D-4931-9C45-5A6920F0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5EF47-314D-45D5-8618-20EC5AFD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DA713-367A-4F07-89B7-B2C5A3EC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1C27F-28AB-4722-B91F-ED7E8F09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CECD-1941-48EB-B242-637935EB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FA521-57E9-420D-83B3-024A9176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21B4C-3F91-4C08-A224-02C1A9E9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1539-0091-49F9-B730-8E61FFF6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B7DE-9BBD-4F92-A7BD-8381D24D7E4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BC61-D5E0-456D-8417-7084DAF02C4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502640"/>
            <a:ext cx="11279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7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797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Ти, велик и славен Цар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целия всемир Творец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ъдия, и Господар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ш Благодетел и Отец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07396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моля Те, о, помогн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рез Тебе да се укрепя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етовните злочестин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мога аз да претърп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07396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лик Си, Боже, само Т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щожен аз и твърде слаб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зло и напаст защит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ене - смирения Твой раб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07396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рцето ми Ти опаз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нищо да се не оскверня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всем ме Ти преобраз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мето Ти да не петн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6-03T16:01:40Z</dcterms:modified>
  <cp:revision>31</cp:revision>
  <dc:subject/>
  <dc:title>Slide 1</dc:title>
</cp:coreProperties>
</file>